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0B52-AE69-4B4B-A94D-3D4653A0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82C1-DC7C-40A9-A9FE-EE9ECB7E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DB0C-16AC-458A-B6CA-5CFD300D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5666-AFA2-4735-B272-ED41ED9A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BA9-5786-4364-A419-ABF0926A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726-E07F-43C7-9744-109A95C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05C3-63C3-416B-A205-1CD202EC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3560-635B-4438-A8C2-D2CD51EB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FBA-A1F6-4975-8CC5-3B42B455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084-B0DE-473A-A089-647BA01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46D-77CD-43BE-AE5C-772017F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043B-7914-4564-A0B0-7C4FBBC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4DF0-FE06-4434-95A2-DE19490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30F-AD1A-4450-8650-30BB54F0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50BA-3EC4-4D41-A728-9F195CA6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BE1-AB1F-4722-BF59-1400F024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9CB0-3397-4317-B3FD-B785B351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2FDF-685C-4698-891B-2A4A2B7A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9A97-5141-42CB-A6A3-23401ACA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2843-D707-4B73-BA04-C38A978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0829-6B5A-42A3-B5F5-94E92ABE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A47F-F657-4981-B514-B1FA36B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0D96-11B7-404C-A382-DC557E8F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74D-AC50-4FA9-BD75-A8DF6E8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FEAE-265F-4EEF-941F-706AE9F140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FE9-2D25-434E-97AD-34CA3B5103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РИЛОЖЕН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76360" y="278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крой эту дверь и ты попадёшь в мир музы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озяйка гостиной творит чудес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в сказке, в мир музыки путь открывает о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ишь руки её инструмента коснуть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звуки рояля в душе отзовут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ребячьих сердцах засияют тог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юбовь, доброта или грусти слеза…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о песня, то танец, то радостный марш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вучит для ребят в этот сказочный ча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з музыки, без ритмики нельзя на свете жи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ы будем вместе с музыкой и ритмикой дружи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.М. Брязгин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05:23Z</dcterms:created>
  <dc:creator>user</dc:creator>
  <dc:description/>
  <dc:language>en-US</dc:language>
  <cp:lastModifiedBy>user</cp:lastModifiedBy>
  <dcterms:modified xsi:type="dcterms:W3CDTF">2008-10-09T15:15:45Z</dcterms:modified>
  <cp:revision>2</cp:revision>
  <dc:subject/>
  <dc:title>ПРИЛОЖЕНИЕ</dc:title>
</cp:coreProperties>
</file>